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76960E3-1D43-4C0C-941E-FC67DC11C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86E4D2-C9A1-4AAD-BA6B-89E663E4C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with pho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3D5A0F9-2EF5-4DE6-90CC-B827DA6E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997-2CCD-4A45-9A8E-3A302ED2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2B1-C033-4569-8BDA-D5CDC473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9BE-141D-4525-91A6-08B716FB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A73-E571-4F9F-B25F-55581328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F35E-A1E4-4435-92A0-C3999FDC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73B-52DE-43D0-80AA-578B602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75F-E931-4173-BB56-21E33A7A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E08-176F-48F4-983D-8AB6E38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1EF-28B2-48E6-95B7-4ACCD4D8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2827-BC0B-4763-BE4F-934E7C2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E55-498B-4F23-A05C-496A1F6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D97-3118-4F0C-B816-21770D72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5008-1302-4D32-B39B-C495163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F91A-E5E0-4609-8189-9C18088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2F5A-7049-40FD-A172-9477B84E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11A1-7B5E-482E-9C5E-7FD93E88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A4B-3FD5-402C-A56F-80E398FA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DBAD-8AFA-4FFE-AE66-5F6BF7E6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7764-F958-4BAB-801E-C48E911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913E-0EF6-4ABA-A01C-F721A46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9EAE-DB47-4011-B4CA-A99A25CC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364D-E562-4703-9340-0BF240D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00D-FFB1-496E-88C8-5FB16D9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4485-8F6E-47C3-94E4-76D5F1C5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F9DB-5958-456A-B3BA-A2926C21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79CC-1184-4422-ACBC-B149DA35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782B-1C03-4963-B593-B7F665B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7E8A-8920-4864-A7EC-FCC6C380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7E22-FFB1-4CB9-9410-13F3E80A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0BEB-1F6C-4181-90A3-2B6B564C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8DE-3501-4AAD-B7E3-79D76B4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D07-1D19-47EC-AB99-6E0015B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937-BC72-446B-98EE-04DC532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209-D24B-4A4D-943D-8D9086F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A4F-CEAE-43BA-9448-7093A13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EBC-1133-44A4-910C-E68176A2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3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ABEF-5671-4E4C-9C81-CA09E181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89728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twtlogo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971640" y="836640"/>
            <a:ext cx="7129440" cy="144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8CB1-34D8-40A2-ACE1-1A3B2CBC2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289728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twtlogo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971640" y="836640"/>
            <a:ext cx="7129440" cy="144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3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3AC-7A84-4755-8183-4FEB8ED1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zhang@shao.ac.c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285840" y="1647720"/>
            <a:ext cx="83581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39640" y="5889600"/>
            <a:ext cx="81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rd International VLBI Technology Workshop , J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0-14 Nov.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285840" y="113184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Development of Broadband VLBI Technologies in 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55640" y="4076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iuzhong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zhang@shao.ac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hanghai Astronomical Observatory,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0FC3-EC20-42D1-937D-E7FF131F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4" descr=""/>
          <p:cNvPicPr/>
          <p:nvPr/>
        </p:nvPicPr>
        <p:blipFill>
          <a:blip r:embed="rId1"/>
          <a:stretch/>
        </p:blipFill>
        <p:spPr>
          <a:xfrm>
            <a:off x="792000" y="1052640"/>
            <a:ext cx="6875640" cy="5157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116000" y="1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DAS-2 in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971640" y="63691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am Leader: Zhu Run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4105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K6 Disk Arra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676-AE59-4434-AFBC-F85C48A1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" descr=""/>
          <p:cNvPicPr/>
          <p:nvPr/>
        </p:nvPicPr>
        <p:blipFill>
          <a:blip r:embed="rId1"/>
          <a:stretch/>
        </p:blipFill>
        <p:spPr>
          <a:xfrm>
            <a:off x="250920" y="1187280"/>
            <a:ext cx="3919320" cy="52246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4572000" y="1268280"/>
            <a:ext cx="439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wo set MK6 system are already arrive in Shang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oing test with CDAS-2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12600"/>
            <a:ext cx="6337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alibration and time Syst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cal, Tcal and Dcal are in developing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ime/Frequency: shared with current syste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eorological system: shared with current syste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9D93-539E-4598-A977-5534B497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in Specifications of Antenna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ameter: 13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F frequency range: 2-14GHz, upgradable to Ka band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larization:  Linear polariz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ptics: Ring focu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perture efficiency:  &gt;50%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rface accuracy: &lt;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ing accurac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&lt;18”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lew rate: az 12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, 3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;  el 6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, 3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lew range: az -27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~+27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; el 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~9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ference point stability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l path length stability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03B-AB5A-4A82-B274-A3529E101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g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佘山VLBI2010天线效果图.jpg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CB21-331F-4CFF-844C-5CA8D7C6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324000" y="4797360"/>
            <a:ext cx="3887640" cy="825480"/>
          </a:xfrm>
          <a:prstGeom prst="rect">
            <a:avLst/>
          </a:prstGeom>
          <a:noFill/>
          <a:ln w="1260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ject Lea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. Wang Guang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3"/>
          <p:cNvCxnSpPr>
            <a:stCxn id="194" idx="0"/>
          </p:cNvCxnSpPr>
          <p:nvPr/>
        </p:nvCxnSpPr>
        <p:spPr>
          <a:xfrm flipV="1">
            <a:off x="2268360" y="3334680"/>
            <a:ext cx="1728000" cy="14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581-7F23-41B5-9A43-54B2479D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324000" y="12682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re are two companies are interest to help us to develop VGOS anten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oth of these two companies have capacity to develop VGOS ante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HAO should select one of them and sign antenna contract in near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1342440" y="1159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nt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6160" y="115920"/>
            <a:ext cx="6189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FI Measurements at Sheshan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内容占位符 3" descr=""/>
          <p:cNvPicPr/>
          <p:nvPr/>
        </p:nvPicPr>
        <p:blipFill>
          <a:blip r:embed="rId1"/>
          <a:stretch/>
        </p:blipFill>
        <p:spPr>
          <a:xfrm>
            <a:off x="-25560" y="981000"/>
            <a:ext cx="9169560" cy="5869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7403760" y="486900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1-2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367-6ECB-42CB-B2B1-8F6280EE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内容占位符 3" descr=""/>
          <p:cNvPicPr/>
          <p:nvPr/>
        </p:nvPicPr>
        <p:blipFill>
          <a:blip r:embed="rId1"/>
          <a:stretch/>
        </p:blipFill>
        <p:spPr>
          <a:xfrm>
            <a:off x="3492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6932160" y="587700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2-4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6C43-42AB-49B2-87B1-7B83EF14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8" name="内容占位符 3" descr=""/>
          <p:cNvPicPr/>
          <p:nvPr/>
        </p:nvPicPr>
        <p:blipFill>
          <a:blip r:embed="rId1"/>
          <a:stretch/>
        </p:blipFill>
        <p:spPr>
          <a:xfrm>
            <a:off x="-27000" y="0"/>
            <a:ext cx="76233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5347080" y="335772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4-8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4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524720" cy="4897440"/>
          </a:xfrm>
          <a:prstGeom prst="rect">
            <a:avLst/>
          </a:prstGeom>
          <a:ln w="0">
            <a:noFill/>
          </a:ln>
        </p:spPr>
      </p:pic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127-CDEE-446F-89DF-8B77C600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776640" y="5835600"/>
            <a:ext cx="20109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8-12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4360" y="1483920"/>
            <a:ext cx="7914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RFI occurs in S-band. It is difficult to use continues broadband at S-band for VLBI observations.  The Superconducting Filter is planned to use for the reduction of the RFI effects.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233-EE6C-4DFA-9C1D-D0ACF9D6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llowing VLBI 2010 project, SHAO started to study broadband VLBI tech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re are several groups working on the broadband VLBI tech. in SHAO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fter long time discussion, SHAO decided to build a VGOS station by self-raised funds at Sheshan, near Shanghai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s decision push SHAO engineers to work on the broadband VLBI tech.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0A04-7016-4E27-97CC-43941E98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834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ome Words for Correlator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2360" y="1550880"/>
            <a:ext cx="871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latform Selec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ftware, PC based, GPU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re power consump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high speed inter-connec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etween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ardware, FPGA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long time to develop the 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more libraries to reduce the develop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ybrid, FPGA used as HPC, others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 so more power 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duce the developing tim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"/>
          <p:cNvSpPr/>
          <p:nvPr/>
        </p:nvSpPr>
        <p:spPr>
          <a:xfrm>
            <a:off x="324000" y="1052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way to develop the Correlat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042920" y="1699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brid, FPGA used as HPC, others with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79280" y="1108080"/>
            <a:ext cx="84013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orrelator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539-4192-4CB2-B363-497688FC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5" descr=""/>
          <p:cNvPicPr/>
          <p:nvPr/>
        </p:nvPicPr>
        <p:blipFill>
          <a:blip r:embed="rId1"/>
          <a:stretch/>
        </p:blipFill>
        <p:spPr>
          <a:xfrm>
            <a:off x="415800" y="1197000"/>
            <a:ext cx="3778200" cy="5038560"/>
          </a:xfrm>
          <a:prstGeom prst="rect">
            <a:avLst/>
          </a:prstGeom>
          <a:ln w="0">
            <a:noFill/>
          </a:ln>
        </p:spPr>
      </p:pic>
      <p:sp>
        <p:nvSpPr>
          <p:cNvPr id="224" name="椭圆 6"/>
          <p:cNvSpPr/>
          <p:nvPr/>
        </p:nvSpPr>
        <p:spPr>
          <a:xfrm>
            <a:off x="1187280" y="5229360"/>
            <a:ext cx="2160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接箭头连接符 8"/>
          <p:cNvCxnSpPr/>
          <p:nvPr/>
        </p:nvCxnSpPr>
        <p:spPr>
          <a:xfrm flipH="1" flipV="1">
            <a:off x="2785680" y="2741040"/>
            <a:ext cx="2247120" cy="18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直接箭头连接符 9"/>
          <p:cNvCxnSpPr/>
          <p:nvPr/>
        </p:nvCxnSpPr>
        <p:spPr>
          <a:xfrm flipH="1" flipV="1">
            <a:off x="2842560" y="1988640"/>
            <a:ext cx="2189880" cy="93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直接箭头连接符 12"/>
          <p:cNvCxnSpPr/>
          <p:nvPr/>
        </p:nvCxnSpPr>
        <p:spPr>
          <a:xfrm flipH="1">
            <a:off x="2842560" y="2923920"/>
            <a:ext cx="2189880" cy="158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8" name="直接箭头连接符 13"/>
          <p:cNvCxnSpPr/>
          <p:nvPr/>
        </p:nvCxnSpPr>
        <p:spPr>
          <a:xfrm flipH="1">
            <a:off x="2700000" y="2944800"/>
            <a:ext cx="233280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9" name="直接箭头连接符 19"/>
          <p:cNvCxnSpPr/>
          <p:nvPr/>
        </p:nvCxnSpPr>
        <p:spPr>
          <a:xfrm flipH="1">
            <a:off x="3099600" y="1520640"/>
            <a:ext cx="16326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0" name="直接箭头连接符 21"/>
          <p:cNvCxnSpPr>
            <a:stCxn id="231" idx="1"/>
            <a:endCxn id="224" idx="6"/>
          </p:cNvCxnSpPr>
          <p:nvPr/>
        </p:nvCxnSpPr>
        <p:spPr>
          <a:xfrm flipH="1">
            <a:off x="3347280" y="4874760"/>
            <a:ext cx="1384920" cy="89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2" name="TextBox 1"/>
          <p:cNvSpPr/>
          <p:nvPr/>
        </p:nvSpPr>
        <p:spPr>
          <a:xfrm>
            <a:off x="4788000" y="1341360"/>
            <a:ext cx="223200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ystem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016600" y="2749680"/>
            <a:ext cx="292392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ta Buffer (Play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2200" y="4691160"/>
            <a:ext cx="302436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iBoard &amp; Pow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826920" y="6381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am Leader: Xu Zhij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4750920" y="33210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in Spec. (one Uniboar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 Stations, 2Gbps/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4511520" y="5589720"/>
            <a:ext cx="44532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ny thanks for the helps of JIVE and ASTRON UniBoard te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B70-0DCE-4CEC-842D-FD5811ED0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187280" y="1159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250920" y="98100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electronics part of Sheshan VGOS station will be completed in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gn Antenna contract as soon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ryogenic Receiver design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Improve th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rformance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of UDC and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Broadband test observation with current big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Study of the structure of the 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2565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cc"/>
                </a:solidFill>
                <a:latin typeface="Arial"/>
                <a:ea typeface="黑体"/>
              </a:rPr>
              <a:t>Thanks!</a:t>
            </a:r>
            <a:endParaRPr b="1" lang="en-US" sz="5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49F-F206-476E-9177-A1B8B468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2843280" y="6227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0000"/>
                </a:solidFill>
                <a:latin typeface="Arial"/>
              </a:rPr>
              <a:t>Talk of Bill Petrachen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2A3-ED13-4B3E-A6DC-AF6AF226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2771640" y="6443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0000"/>
                </a:solidFill>
                <a:latin typeface="Arial"/>
              </a:rPr>
              <a:t>Talk of Bill Petrachen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122640" cy="4753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475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ryogenic Front End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295280"/>
            <a:ext cx="773280" cy="2613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RF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38200" y="4149720"/>
            <a:ext cx="990720" cy="4287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 Noise Amplif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68BA-5816-43AD-8EB3-0C23ADCA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3924360" y="1425600"/>
            <a:ext cx="5040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e set QRFH and LNA from Cal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gn and develop Cryogenic system with cooperation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udy the measurement methods of performance of broadband cryogenic rece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71280"/>
            <a:ext cx="7058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p Down Converter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内容占位符 3" descr=""/>
          <p:cNvPicPr/>
          <p:nvPr/>
        </p:nvPicPr>
        <p:blipFill>
          <a:blip r:embed="rId1"/>
          <a:stretch/>
        </p:blipFill>
        <p:spPr>
          <a:xfrm>
            <a:off x="117360" y="1003320"/>
            <a:ext cx="4105440" cy="4370400"/>
          </a:xfrm>
          <a:prstGeom prst="rect">
            <a:avLst/>
          </a:prstGeom>
          <a:ln w="0">
            <a:noFill/>
          </a:ln>
        </p:spPr>
      </p:pic>
      <p:sp>
        <p:nvSpPr>
          <p:cNvPr id="158" name="椭圆 5"/>
          <p:cNvSpPr/>
          <p:nvPr/>
        </p:nvSpPr>
        <p:spPr>
          <a:xfrm>
            <a:off x="539640" y="2131920"/>
            <a:ext cx="3240360" cy="79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ACA8-E34E-468C-807A-29C0D040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211640" y="1125360"/>
            <a:ext cx="468144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y companies are interest to help us to develop UDC for our VGOS s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in specifi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Input :  2 – 14GHz  (with linear polariz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Output: 512~1024 / 70 ~ 1024MHz selec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Programmable with 0.1 MHz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箭头连接符 2"/>
          <p:cNvCxnSpPr/>
          <p:nvPr/>
        </p:nvCxnSpPr>
        <p:spPr>
          <a:xfrm flipH="1" flipV="1">
            <a:off x="2375640" y="2923560"/>
            <a:ext cx="683640" cy="3097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TextBox 8"/>
          <p:cNvSpPr/>
          <p:nvPr/>
        </p:nvSpPr>
        <p:spPr>
          <a:xfrm>
            <a:off x="900000" y="6165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totype System of U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A9C-4737-45B4-B36C-C1948D2C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2013-07-25 14.34.05.jpg"/>
          <p:cNvPicPr/>
          <p:nvPr/>
        </p:nvPicPr>
        <p:blipFill>
          <a:blip r:embed="rId1"/>
          <a:stretch/>
        </p:blipFill>
        <p:spPr>
          <a:xfrm>
            <a:off x="611280" y="1197000"/>
            <a:ext cx="2523960" cy="17812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" descr=""/>
          <p:cNvPicPr/>
          <p:nvPr/>
        </p:nvPicPr>
        <p:blipFill>
          <a:blip r:embed="rId2"/>
          <a:stretch/>
        </p:blipFill>
        <p:spPr>
          <a:xfrm>
            <a:off x="598320" y="3141720"/>
            <a:ext cx="2533680" cy="14382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635280" y="1135800"/>
            <a:ext cx="5205600" cy="210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new platform, CDAS2 with PFB (Poly-phase Filter Bank) algorithm is under testing. Now it can work in two mo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12 MHz Dual IF M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ach IF, it 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12 MHz bandwidth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 channe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2 MHz bandwidth for each output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24 MHz Single IF Mod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24 MHz bandwidth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 channe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4 MHz bandwidth for each output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7" descr="zhu03.png"/>
          <p:cNvPicPr/>
          <p:nvPr/>
        </p:nvPicPr>
        <p:blipFill>
          <a:blip r:embed="rId3"/>
          <a:stretch/>
        </p:blipFill>
        <p:spPr>
          <a:xfrm>
            <a:off x="108000" y="4724280"/>
            <a:ext cx="4314600" cy="2044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zhu04.png"/>
          <p:cNvPicPr/>
          <p:nvPr/>
        </p:nvPicPr>
        <p:blipFill>
          <a:blip r:embed="rId4"/>
          <a:stretch/>
        </p:blipFill>
        <p:spPr>
          <a:xfrm>
            <a:off x="3708360" y="3573360"/>
            <a:ext cx="5273640" cy="3046680"/>
          </a:xfrm>
          <a:prstGeom prst="rect">
            <a:avLst/>
          </a:prstGeom>
          <a:ln w="0">
            <a:noFill/>
          </a:ln>
        </p:spPr>
      </p:pic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273B-0DF9-478E-93C3-35344A85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71280"/>
            <a:ext cx="4105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DAS-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6062760" cy="31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108000" y="3213000"/>
            <a:ext cx="5759280" cy="3138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5940360" y="-27000"/>
            <a:ext cx="3168720" cy="8597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test and real  obser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H25M and TM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test observation in July to check functions of CD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(@ X band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39.25        10.0J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02+490        0.27 J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R (Int. Time 2.048 s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.2 for 0902+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2.6 for 4C39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58F-89CC-4C7A-843C-1890CB903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08:06:03Z</dcterms:created>
  <dc:creator>Zhangxiuzhong</dc:creator>
  <dc:description/>
  <dc:language>en-US</dc:language>
  <cp:lastModifiedBy>Xiuzhong Zhang</cp:lastModifiedBy>
  <cp:lastPrinted>2002-02-16T14:40:26Z</cp:lastPrinted>
  <dcterms:modified xsi:type="dcterms:W3CDTF">2014-11-10T08:23:53Z</dcterms:modified>
  <cp:revision>915</cp:revision>
  <dc:subject/>
  <dc:title>没有幻灯片标题</dc:title>
</cp:coreProperties>
</file>